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3D4-47BF-4D33-AAE8-45687661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FA4-7C55-4BBE-ACF0-4582B749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4A1-9DA3-471E-805B-DA05D163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E62-8EAA-4CEC-8497-1A37A64D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E6E-FE14-4983-9626-2315EE4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DE9-9DFA-422F-B0CB-3B6B7E40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17B-D54E-4ED6-9461-D392623C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A18-3DEE-46B2-9EE5-E94ED0E0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D7A-E9B8-48E8-B3C2-C43F7950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72C-E7BD-4E6E-9928-73B93DCD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F84-A7BE-4B4C-94C8-9C7CA48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67D-E5C8-41C1-B93C-F57430B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951-27A9-4E75-AE59-2E3B83A5A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3.png"/><Relationship Id="rId10" Type="http://schemas.openxmlformats.org/officeDocument/2006/relationships/image" Target="../media/image8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18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6.png"/><Relationship Id="rId11" Type="http://schemas.openxmlformats.org/officeDocument/2006/relationships/slide" Target="slide7.xml"/><Relationship Id="rId12" Type="http://schemas.openxmlformats.org/officeDocument/2006/relationships/image" Target="../media/image6.png"/><Relationship Id="rId13" Type="http://schemas.openxmlformats.org/officeDocument/2006/relationships/slide" Target="slide9.xml"/><Relationship Id="rId14" Type="http://schemas.openxmlformats.org/officeDocument/2006/relationships/image" Target="../media/image6.png"/><Relationship Id="rId15" Type="http://schemas.openxmlformats.org/officeDocument/2006/relationships/slide" Target="slide10.xml"/><Relationship Id="rId16" Type="http://schemas.openxmlformats.org/officeDocument/2006/relationships/image" Target="../media/image6.png"/><Relationship Id="rId17" Type="http://schemas.openxmlformats.org/officeDocument/2006/relationships/slide" Target="slide11.xml"/><Relationship Id="rId18" Type="http://schemas.openxmlformats.org/officeDocument/2006/relationships/image" Target="../media/image6.png"/><Relationship Id="rId19" Type="http://schemas.openxmlformats.org/officeDocument/2006/relationships/slide" Target="slide8.xml"/><Relationship Id="rId20" Type="http://schemas.openxmlformats.org/officeDocument/2006/relationships/image" Target="../media/image6.png"/><Relationship Id="rId21" Type="http://schemas.openxmlformats.org/officeDocument/2006/relationships/slide" Target="slide2.xml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9"/>
          <p:cNvSpPr/>
          <p:nvPr/>
        </p:nvSpPr>
        <p:spPr>
          <a:xfrm>
            <a:off x="1003680" y="620640"/>
            <a:ext cx="74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ё про Деда Моро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Documents and Settings\Стас\Рабочий стол\4542b6274c32.png"/>
          <p:cNvPicPr/>
          <p:nvPr/>
        </p:nvPicPr>
        <p:blipFill>
          <a:blip r:embed="rId3"/>
          <a:stretch/>
        </p:blipFill>
        <p:spPr>
          <a:xfrm>
            <a:off x="4211640" y="1700280"/>
            <a:ext cx="4722840" cy="4952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снежинка_4"/>
          <p:cNvPicPr/>
          <p:nvPr/>
        </p:nvPicPr>
        <p:blipFill>
          <a:blip r:embed="rId4"/>
          <a:stretch/>
        </p:blipFill>
        <p:spPr>
          <a:xfrm>
            <a:off x="539640" y="162864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снежинка_4"/>
          <p:cNvPicPr/>
          <p:nvPr/>
        </p:nvPicPr>
        <p:blipFill>
          <a:blip r:embed="rId5"/>
          <a:stretch/>
        </p:blipFill>
        <p:spPr>
          <a:xfrm>
            <a:off x="2556000" y="1916280"/>
            <a:ext cx="1079280" cy="99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снежинка_4"/>
          <p:cNvPicPr/>
          <p:nvPr/>
        </p:nvPicPr>
        <p:blipFill>
          <a:blip r:embed="rId6"/>
          <a:stretch/>
        </p:blipFill>
        <p:spPr>
          <a:xfrm>
            <a:off x="3780000" y="4941720"/>
            <a:ext cx="412560" cy="3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снежинка_4"/>
          <p:cNvPicPr/>
          <p:nvPr/>
        </p:nvPicPr>
        <p:blipFill>
          <a:blip r:embed="rId7"/>
          <a:stretch/>
        </p:blipFill>
        <p:spPr>
          <a:xfrm>
            <a:off x="3419640" y="476280"/>
            <a:ext cx="431640" cy="39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снежинка_4"/>
          <p:cNvPicPr/>
          <p:nvPr/>
        </p:nvPicPr>
        <p:blipFill>
          <a:blip r:embed="rId8"/>
          <a:stretch/>
        </p:blipFill>
        <p:spPr>
          <a:xfrm>
            <a:off x="8101080" y="148428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снежинка_4"/>
          <p:cNvPicPr/>
          <p:nvPr/>
        </p:nvPicPr>
        <p:blipFill>
          <a:blip r:embed="rId9"/>
          <a:stretch/>
        </p:blipFill>
        <p:spPr>
          <a:xfrm>
            <a:off x="1476360" y="3860640"/>
            <a:ext cx="78120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Стас\Рабочий стол\Презентация\logo_print2.tif"/>
          <p:cNvPicPr/>
          <p:nvPr/>
        </p:nvPicPr>
        <p:blipFill>
          <a:blip r:embed="rId10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6" descr="снежинка_5"/>
          <p:cNvPicPr/>
          <p:nvPr/>
        </p:nvPicPr>
        <p:blipFill>
          <a:blip r:embed="rId3"/>
          <a:stretch/>
        </p:blipFill>
        <p:spPr>
          <a:xfrm>
            <a:off x="7524720" y="4653000"/>
            <a:ext cx="66852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6" descr="снежинка_5"/>
          <p:cNvPicPr/>
          <p:nvPr/>
        </p:nvPicPr>
        <p:blipFill>
          <a:blip r:embed="rId4"/>
          <a:stretch/>
        </p:blipFill>
        <p:spPr>
          <a:xfrm>
            <a:off x="1619280" y="404640"/>
            <a:ext cx="527040" cy="5414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8569440" y="6356520"/>
            <a:ext cx="574560" cy="5014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7493"/>
                </a:moveTo>
                <a:lnTo>
                  <a:pt x="8874" y="7493"/>
                </a:lnTo>
                <a:lnTo>
                  <a:pt x="8874" y="12828"/>
                </a:lnTo>
                <a:cubicBezTo>
                  <a:pt x="8874" y="13751"/>
                  <a:pt x="9675" y="14482"/>
                  <a:pt x="10710" y="14482"/>
                </a:cubicBezTo>
                <a:lnTo>
                  <a:pt x="12373" y="14482"/>
                </a:lnTo>
                <a:cubicBezTo>
                  <a:pt x="13408" y="14482"/>
                  <a:pt x="14209" y="13751"/>
                  <a:pt x="14209" y="12828"/>
                </a:cubicBezTo>
                <a:lnTo>
                  <a:pt x="14209" y="7493"/>
                </a:lnTo>
                <a:lnTo>
                  <a:pt x="12373" y="7493"/>
                </a:lnTo>
                <a:lnTo>
                  <a:pt x="15880" y="3985"/>
                </a:lnTo>
                <a:lnTo>
                  <a:pt x="19553" y="7493"/>
                </a:lnTo>
                <a:lnTo>
                  <a:pt x="17717" y="7493"/>
                </a:lnTo>
                <a:lnTo>
                  <a:pt x="17717" y="12828"/>
                </a:lnTo>
                <a:cubicBezTo>
                  <a:pt x="17717" y="15596"/>
                  <a:pt x="15141" y="18155"/>
                  <a:pt x="12373" y="18155"/>
                </a:cubicBezTo>
                <a:lnTo>
                  <a:pt x="10710" y="18155"/>
                </a:lnTo>
                <a:cubicBezTo>
                  <a:pt x="7943" y="18155"/>
                  <a:pt x="5366" y="15596"/>
                  <a:pt x="5366" y="12828"/>
                </a:cubicBezTo>
                <a:close/>
              </a:path>
            </a:pathLst>
          </a:custGeom>
          <a:gradFill rotWithShape="0">
            <a:gsLst>
              <a:gs pos="0">
                <a:srgbClr val="cdeb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20720" y="88416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тарину, когда Дед Мороз был помоложе и поэнергичнее, он не только раздавал подарки детям и взрослым, но и пошаливал: портил посевы и жилища тех, кто его разгневал (или не угостил как над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b77b1c4b9f4b[1]"/>
          <p:cNvPicPr/>
          <p:nvPr/>
        </p:nvPicPr>
        <p:blipFill>
          <a:blip r:embed="rId5"/>
          <a:stretch/>
        </p:blipFill>
        <p:spPr>
          <a:xfrm>
            <a:off x="539640" y="2496960"/>
            <a:ext cx="2686320" cy="402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2916360" y="2637000"/>
            <a:ext cx="58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йчас он значительно подобрел и обычно ограничивается хождением по гостям под Новый Год и распределением подарков. Правда, иногда требует, чтобы получатель предварительно спел ему песенку или рассказал стиш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8569440" y="6356520"/>
            <a:ext cx="574560" cy="5014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7493"/>
                </a:moveTo>
                <a:lnTo>
                  <a:pt x="8874" y="7493"/>
                </a:lnTo>
                <a:lnTo>
                  <a:pt x="8874" y="12828"/>
                </a:lnTo>
                <a:cubicBezTo>
                  <a:pt x="8874" y="13751"/>
                  <a:pt x="9675" y="14482"/>
                  <a:pt x="10710" y="14482"/>
                </a:cubicBezTo>
                <a:lnTo>
                  <a:pt x="12373" y="14482"/>
                </a:lnTo>
                <a:cubicBezTo>
                  <a:pt x="13408" y="14482"/>
                  <a:pt x="14209" y="13751"/>
                  <a:pt x="14209" y="12828"/>
                </a:cubicBezTo>
                <a:lnTo>
                  <a:pt x="14209" y="7493"/>
                </a:lnTo>
                <a:lnTo>
                  <a:pt x="12373" y="7493"/>
                </a:lnTo>
                <a:lnTo>
                  <a:pt x="15880" y="3985"/>
                </a:lnTo>
                <a:lnTo>
                  <a:pt x="19553" y="7493"/>
                </a:lnTo>
                <a:lnTo>
                  <a:pt x="17717" y="7493"/>
                </a:lnTo>
                <a:lnTo>
                  <a:pt x="17717" y="12828"/>
                </a:lnTo>
                <a:cubicBezTo>
                  <a:pt x="17717" y="15596"/>
                  <a:pt x="15141" y="18155"/>
                  <a:pt x="12373" y="18155"/>
                </a:cubicBezTo>
                <a:lnTo>
                  <a:pt x="10710" y="18155"/>
                </a:lnTo>
                <a:cubicBezTo>
                  <a:pt x="7943" y="18155"/>
                  <a:pt x="5366" y="15596"/>
                  <a:pt x="5366" y="12828"/>
                </a:cubicBezTo>
                <a:close/>
              </a:path>
            </a:pathLst>
          </a:custGeom>
          <a:gradFill rotWithShape="0">
            <a:gsLst>
              <a:gs pos="0">
                <a:srgbClr val="cdeb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3" descr="снежинка_3_1"/>
          <p:cNvPicPr/>
          <p:nvPr/>
        </p:nvPicPr>
        <p:blipFill>
          <a:blip r:embed="rId6"/>
          <a:stretch/>
        </p:blipFill>
        <p:spPr>
          <a:xfrm>
            <a:off x="4067280" y="5589720"/>
            <a:ext cx="658800" cy="66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3" descr="снежинка_3_1"/>
          <p:cNvPicPr/>
          <p:nvPr/>
        </p:nvPicPr>
        <p:blipFill>
          <a:blip r:embed="rId7"/>
          <a:stretch/>
        </p:blipFill>
        <p:spPr>
          <a:xfrm>
            <a:off x="5724360" y="5013360"/>
            <a:ext cx="373320" cy="37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снежинка_5"/>
          <p:cNvPicPr/>
          <p:nvPr/>
        </p:nvPicPr>
        <p:blipFill>
          <a:blip r:embed="rId8"/>
          <a:stretch/>
        </p:blipFill>
        <p:spPr>
          <a:xfrm>
            <a:off x="4284720" y="476280"/>
            <a:ext cx="66816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Documents and Settings\Стас\Рабочий стол\Презентация\logo_print2.tif"/>
          <p:cNvPicPr/>
          <p:nvPr/>
        </p:nvPicPr>
        <p:blipFill>
          <a:blip r:embed="rId9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5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1692360" y="165276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ьшие расстояния преодолевает по воздуху – в санях, запряженных тройкой белых лоша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8459640" y="6237360"/>
            <a:ext cx="574920" cy="5014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61" h="21600">
                <a:moveTo>
                  <a:pt x="5374" y="7493"/>
                </a:moveTo>
                <a:lnTo>
                  <a:pt x="8882" y="7493"/>
                </a:lnTo>
                <a:lnTo>
                  <a:pt x="8882" y="12828"/>
                </a:lnTo>
                <a:cubicBezTo>
                  <a:pt x="8882" y="13751"/>
                  <a:pt x="9682" y="14482"/>
                  <a:pt x="10718" y="14482"/>
                </a:cubicBezTo>
                <a:lnTo>
                  <a:pt x="12380" y="14482"/>
                </a:lnTo>
                <a:cubicBezTo>
                  <a:pt x="13416" y="14482"/>
                  <a:pt x="14217" y="13751"/>
                  <a:pt x="14217" y="12828"/>
                </a:cubicBezTo>
                <a:lnTo>
                  <a:pt x="14217" y="7493"/>
                </a:lnTo>
                <a:lnTo>
                  <a:pt x="12380" y="7493"/>
                </a:lnTo>
                <a:lnTo>
                  <a:pt x="15888" y="3985"/>
                </a:lnTo>
                <a:lnTo>
                  <a:pt x="19561" y="7493"/>
                </a:lnTo>
                <a:lnTo>
                  <a:pt x="17725" y="7493"/>
                </a:lnTo>
                <a:lnTo>
                  <a:pt x="17725" y="12828"/>
                </a:lnTo>
                <a:cubicBezTo>
                  <a:pt x="17725" y="15596"/>
                  <a:pt x="15148" y="18155"/>
                  <a:pt x="12380" y="18155"/>
                </a:cubicBezTo>
                <a:lnTo>
                  <a:pt x="10718" y="18155"/>
                </a:lnTo>
                <a:cubicBezTo>
                  <a:pt x="7950" y="18155"/>
                  <a:pt x="5374" y="15596"/>
                  <a:pt x="5374" y="12828"/>
                </a:cubicBezTo>
                <a:close/>
              </a:path>
            </a:pathLst>
          </a:custGeom>
          <a:gradFill rotWithShape="0">
            <a:gsLst>
              <a:gs pos="0">
                <a:srgbClr val="cdeb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692360" y="57312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двигается, как правило, пешком с посохом, иногда – на лыж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7" descr="снежинка_4"/>
          <p:cNvPicPr/>
          <p:nvPr/>
        </p:nvPicPr>
        <p:blipFill>
          <a:blip r:embed="rId3"/>
          <a:stretch/>
        </p:blipFill>
        <p:spPr>
          <a:xfrm>
            <a:off x="971640" y="1125360"/>
            <a:ext cx="647640" cy="597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снежинка_3_1"/>
          <p:cNvPicPr/>
          <p:nvPr/>
        </p:nvPicPr>
        <p:blipFill>
          <a:blip r:embed="rId4"/>
          <a:stretch/>
        </p:blipFill>
        <p:spPr>
          <a:xfrm>
            <a:off x="3276720" y="5084640"/>
            <a:ext cx="65880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снежинка_3_1"/>
          <p:cNvPicPr/>
          <p:nvPr/>
        </p:nvPicPr>
        <p:blipFill>
          <a:blip r:embed="rId5"/>
          <a:stretch/>
        </p:blipFill>
        <p:spPr>
          <a:xfrm>
            <a:off x="684360" y="2205000"/>
            <a:ext cx="658800" cy="66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снежинка_3_1"/>
          <p:cNvPicPr/>
          <p:nvPr/>
        </p:nvPicPr>
        <p:blipFill>
          <a:blip r:embed="rId6"/>
          <a:stretch/>
        </p:blipFill>
        <p:spPr>
          <a:xfrm>
            <a:off x="7093080" y="2997360"/>
            <a:ext cx="658800" cy="66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снежинка_4"/>
          <p:cNvPicPr/>
          <p:nvPr/>
        </p:nvPicPr>
        <p:blipFill>
          <a:blip r:embed="rId7"/>
          <a:stretch/>
        </p:blipFill>
        <p:spPr>
          <a:xfrm>
            <a:off x="2411280" y="5950080"/>
            <a:ext cx="648000" cy="596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снежинка_4"/>
          <p:cNvPicPr/>
          <p:nvPr/>
        </p:nvPicPr>
        <p:blipFill>
          <a:blip r:embed="rId8"/>
          <a:stretch/>
        </p:blipFill>
        <p:spPr>
          <a:xfrm>
            <a:off x="6804000" y="119700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снежинка_5"/>
          <p:cNvPicPr/>
          <p:nvPr/>
        </p:nvPicPr>
        <p:blipFill>
          <a:blip r:embed="rId9"/>
          <a:stretch/>
        </p:blipFill>
        <p:spPr>
          <a:xfrm>
            <a:off x="8172360" y="1916280"/>
            <a:ext cx="66852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8" descr="снежинка_3_1"/>
          <p:cNvPicPr/>
          <p:nvPr/>
        </p:nvPicPr>
        <p:blipFill>
          <a:blip r:embed="rId10"/>
          <a:stretch/>
        </p:blipFill>
        <p:spPr>
          <a:xfrm>
            <a:off x="6443640" y="5229360"/>
            <a:ext cx="658800" cy="66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снежинка_4"/>
          <p:cNvPicPr/>
          <p:nvPr/>
        </p:nvPicPr>
        <p:blipFill>
          <a:blip r:embed="rId11"/>
          <a:stretch/>
        </p:blipFill>
        <p:spPr>
          <a:xfrm>
            <a:off x="8244000" y="501336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" descr="снежинка_4"/>
          <p:cNvPicPr/>
          <p:nvPr/>
        </p:nvPicPr>
        <p:blipFill>
          <a:blip r:embed="rId12"/>
          <a:stretch/>
        </p:blipFill>
        <p:spPr>
          <a:xfrm>
            <a:off x="900000" y="4941720"/>
            <a:ext cx="647640" cy="597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7" descr="снежинка_4"/>
          <p:cNvPicPr/>
          <p:nvPr/>
        </p:nvPicPr>
        <p:blipFill>
          <a:blip r:embed="rId13"/>
          <a:stretch/>
        </p:blipFill>
        <p:spPr>
          <a:xfrm>
            <a:off x="4932360" y="515772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D:\клипарты\ноый год\cd20e9670dce.png"/>
          <p:cNvPicPr/>
          <p:nvPr/>
        </p:nvPicPr>
        <p:blipFill>
          <a:blip r:embed="rId14"/>
          <a:stretch/>
        </p:blipFill>
        <p:spPr>
          <a:xfrm>
            <a:off x="1332000" y="2781360"/>
            <a:ext cx="5214960" cy="367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Стас\Рабочий стол\Презентация\logo_print2.tif"/>
          <p:cNvPicPr/>
          <p:nvPr/>
        </p:nvPicPr>
        <p:blipFill>
          <a:blip r:embed="rId15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WordArt 8"/>
          <p:cNvSpPr txBox="1"/>
          <p:nvPr/>
        </p:nvSpPr>
        <p:spPr>
          <a:xfrm>
            <a:off x="2195640" y="549360"/>
            <a:ext cx="518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1f497d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1f497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13" descr="снежинка_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907920"/>
            <a:ext cx="1120680" cy="115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снежинка_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6920" y="2060640"/>
            <a:ext cx="1089360" cy="1117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1619280" y="1197000"/>
            <a:ext cx="1008000" cy="5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050920" y="2349360"/>
            <a:ext cx="2232000" cy="5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о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7" descr="снежинка_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26920" y="3357720"/>
            <a:ext cx="1089360" cy="1117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2124000" y="3645000"/>
            <a:ext cx="1871640" cy="5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9" descr="снежинка_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24000" y="5373720"/>
            <a:ext cx="1089000" cy="1117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0"/>
          <p:cNvSpPr/>
          <p:nvPr/>
        </p:nvSpPr>
        <p:spPr>
          <a:xfrm>
            <a:off x="1619280" y="5661000"/>
            <a:ext cx="1655640" cy="5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рас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1" descr="снежинка_5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500720" y="1628640"/>
            <a:ext cx="1089000" cy="1117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2"/>
          <p:cNvSpPr/>
          <p:nvPr/>
        </p:nvSpPr>
        <p:spPr>
          <a:xfrm>
            <a:off x="5651640" y="1844640"/>
            <a:ext cx="2014560" cy="5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ис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3" descr="снежинка_5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851280" y="2924280"/>
            <a:ext cx="1089000" cy="1117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4"/>
          <p:cNvSpPr/>
          <p:nvPr/>
        </p:nvSpPr>
        <p:spPr>
          <a:xfrm>
            <a:off x="5003640" y="3213000"/>
            <a:ext cx="3241800" cy="5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заняти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5" descr="снежинка_5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56000" y="4149720"/>
            <a:ext cx="1089000" cy="1117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6"/>
          <p:cNvSpPr/>
          <p:nvPr/>
        </p:nvSpPr>
        <p:spPr>
          <a:xfrm>
            <a:off x="3635280" y="4365720"/>
            <a:ext cx="4356360" cy="5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ное средств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1" descr="снежинка_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708360" y="5445000"/>
            <a:ext cx="1089000" cy="1117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2"/>
          <p:cNvSpPr/>
          <p:nvPr/>
        </p:nvSpPr>
        <p:spPr>
          <a:xfrm>
            <a:off x="4932360" y="5661000"/>
            <a:ext cx="2808360" cy="5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ственник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34">
            <a:hlinkClick r:id="rId21" action="ppaction://hlinksldjump"/>
          </p:cNvPr>
          <p:cNvSpPr/>
          <p:nvPr/>
        </p:nvSpPr>
        <p:spPr>
          <a:xfrm>
            <a:off x="8388360" y="6165720"/>
            <a:ext cx="574560" cy="50184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24728" h="21600">
                <a:moveTo>
                  <a:pt x="0" y="0"/>
                </a:moveTo>
                <a:lnTo>
                  <a:pt x="24728" y="0"/>
                </a:lnTo>
                <a:lnTo>
                  <a:pt x="24728" y="21600"/>
                </a:lnTo>
                <a:lnTo>
                  <a:pt x="0" y="21600"/>
                </a:lnTo>
                <a:close/>
              </a:path>
              <a:path fill="lightenLess" w="24728" h="21600">
                <a:moveTo>
                  <a:pt x="0" y="0"/>
                </a:moveTo>
                <a:lnTo>
                  <a:pt x="24728" y="0"/>
                </a:lnTo>
                <a:lnTo>
                  <a:pt x="23328" y="1400"/>
                </a:lnTo>
                <a:lnTo>
                  <a:pt x="1400" y="1400"/>
                </a:lnTo>
                <a:close/>
              </a:path>
              <a:path fill="darken" w="24728" h="21600">
                <a:moveTo>
                  <a:pt x="24728" y="0"/>
                </a:moveTo>
                <a:lnTo>
                  <a:pt x="24728" y="21600"/>
                </a:lnTo>
                <a:lnTo>
                  <a:pt x="23328" y="20200"/>
                </a:lnTo>
                <a:lnTo>
                  <a:pt x="23328" y="1400"/>
                </a:lnTo>
                <a:close/>
              </a:path>
              <a:path fill="darkenLess" w="24728" h="21600">
                <a:moveTo>
                  <a:pt x="2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28" y="20200"/>
                </a:lnTo>
                <a:close/>
              </a:path>
              <a:path fill="lighten" w="2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28" h="21600">
                <a:moveTo>
                  <a:pt x="5357" y="7493"/>
                </a:moveTo>
                <a:lnTo>
                  <a:pt x="8865" y="7493"/>
                </a:lnTo>
                <a:lnTo>
                  <a:pt x="8865" y="12828"/>
                </a:lnTo>
                <a:cubicBezTo>
                  <a:pt x="8865" y="13751"/>
                  <a:pt x="9666" y="14482"/>
                  <a:pt x="10701" y="14482"/>
                </a:cubicBezTo>
                <a:lnTo>
                  <a:pt x="12364" y="14482"/>
                </a:lnTo>
                <a:cubicBezTo>
                  <a:pt x="13400" y="14482"/>
                  <a:pt x="14200" y="13751"/>
                  <a:pt x="14200" y="12828"/>
                </a:cubicBezTo>
                <a:lnTo>
                  <a:pt x="14200" y="7493"/>
                </a:lnTo>
                <a:lnTo>
                  <a:pt x="12364" y="7493"/>
                </a:lnTo>
                <a:lnTo>
                  <a:pt x="15871" y="3985"/>
                </a:lnTo>
                <a:lnTo>
                  <a:pt x="19544" y="7493"/>
                </a:lnTo>
                <a:lnTo>
                  <a:pt x="17708" y="7493"/>
                </a:lnTo>
                <a:lnTo>
                  <a:pt x="17708" y="12828"/>
                </a:lnTo>
                <a:cubicBezTo>
                  <a:pt x="17708" y="15596"/>
                  <a:pt x="15132" y="18155"/>
                  <a:pt x="12364" y="18155"/>
                </a:cubicBezTo>
                <a:lnTo>
                  <a:pt x="10701" y="18155"/>
                </a:lnTo>
                <a:cubicBezTo>
                  <a:pt x="7934" y="18155"/>
                  <a:pt x="5357" y="15596"/>
                  <a:pt x="5357" y="12828"/>
                </a:cubicBezTo>
                <a:close/>
              </a:path>
            </a:pathLst>
          </a:custGeom>
          <a:gradFill rotWithShape="0">
            <a:gsLst>
              <a:gs pos="0">
                <a:srgbClr val="c4cdda"/>
              </a:gs>
              <a:gs pos="100000">
                <a:srgbClr val="9fb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2970720" y="404640"/>
            <a:ext cx="373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д Моро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Стас\Рабочий стол\Презентация\logo_print2.tif"/>
          <p:cNvPicPr/>
          <p:nvPr/>
        </p:nvPicPr>
        <p:blipFill>
          <a:blip r:embed="rId22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0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4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51280" y="439884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астоящее время его зовут Дедом Мороз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780000" y="127008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тарину его называли по-разному: Дед Трескун, Мороз Ёлкич, Студенец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д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роз, Морозко, Мороз Красный н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51280" y="324648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чаще, с уважением, по имени-отчеству: Мороз-Иванови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d847018811ab[1]"/>
          <p:cNvPicPr/>
          <p:nvPr/>
        </p:nvPicPr>
        <p:blipFill>
          <a:blip r:embed="rId3"/>
          <a:stretch/>
        </p:blipFill>
        <p:spPr>
          <a:xfrm>
            <a:off x="1116000" y="981000"/>
            <a:ext cx="2467080" cy="525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снежинка_3_1"/>
          <p:cNvPicPr/>
          <p:nvPr/>
        </p:nvPicPr>
        <p:blipFill>
          <a:blip r:embed="rId4"/>
          <a:stretch/>
        </p:blipFill>
        <p:spPr>
          <a:xfrm>
            <a:off x="7956720" y="5229360"/>
            <a:ext cx="658800" cy="66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8" descr="снежинка_4"/>
          <p:cNvPicPr/>
          <p:nvPr/>
        </p:nvPicPr>
        <p:blipFill>
          <a:blip r:embed="rId5"/>
          <a:stretch/>
        </p:blipFill>
        <p:spPr>
          <a:xfrm>
            <a:off x="971640" y="3716280"/>
            <a:ext cx="431640" cy="39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9" descr="снежинка_4"/>
          <p:cNvPicPr/>
          <p:nvPr/>
        </p:nvPicPr>
        <p:blipFill>
          <a:blip r:embed="rId6"/>
          <a:stretch/>
        </p:blipFill>
        <p:spPr>
          <a:xfrm>
            <a:off x="395280" y="476280"/>
            <a:ext cx="1039680" cy="9586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4"/>
          <p:cNvSpPr/>
          <p:nvPr/>
        </p:nvSpPr>
        <p:spPr>
          <a:xfrm>
            <a:off x="8569440" y="6356520"/>
            <a:ext cx="574560" cy="5014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7493"/>
                </a:moveTo>
                <a:lnTo>
                  <a:pt x="8874" y="7493"/>
                </a:lnTo>
                <a:lnTo>
                  <a:pt x="8874" y="12828"/>
                </a:lnTo>
                <a:cubicBezTo>
                  <a:pt x="8874" y="13751"/>
                  <a:pt x="9675" y="14482"/>
                  <a:pt x="10710" y="14482"/>
                </a:cubicBezTo>
                <a:lnTo>
                  <a:pt x="12373" y="14482"/>
                </a:lnTo>
                <a:cubicBezTo>
                  <a:pt x="13408" y="14482"/>
                  <a:pt x="14209" y="13751"/>
                  <a:pt x="14209" y="12828"/>
                </a:cubicBezTo>
                <a:lnTo>
                  <a:pt x="14209" y="7493"/>
                </a:lnTo>
                <a:lnTo>
                  <a:pt x="12373" y="7493"/>
                </a:lnTo>
                <a:lnTo>
                  <a:pt x="15880" y="3985"/>
                </a:lnTo>
                <a:lnTo>
                  <a:pt x="19553" y="7493"/>
                </a:lnTo>
                <a:lnTo>
                  <a:pt x="17717" y="7493"/>
                </a:lnTo>
                <a:lnTo>
                  <a:pt x="17717" y="12828"/>
                </a:lnTo>
                <a:cubicBezTo>
                  <a:pt x="17717" y="15596"/>
                  <a:pt x="15141" y="18155"/>
                  <a:pt x="12373" y="18155"/>
                </a:cubicBezTo>
                <a:lnTo>
                  <a:pt x="10710" y="18155"/>
                </a:lnTo>
                <a:cubicBezTo>
                  <a:pt x="7943" y="18155"/>
                  <a:pt x="5366" y="15596"/>
                  <a:pt x="5366" y="12828"/>
                </a:cubicBezTo>
                <a:close/>
              </a:path>
            </a:pathLst>
          </a:custGeom>
          <a:gradFill rotWithShape="0">
            <a:gsLst>
              <a:gs pos="0">
                <a:srgbClr val="cdeb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7" descr="снежинка_4"/>
          <p:cNvPicPr/>
          <p:nvPr/>
        </p:nvPicPr>
        <p:blipFill>
          <a:blip r:embed="rId7"/>
          <a:stretch/>
        </p:blipFill>
        <p:spPr>
          <a:xfrm>
            <a:off x="3635280" y="69228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3" descr="снежинка_4"/>
          <p:cNvPicPr/>
          <p:nvPr/>
        </p:nvPicPr>
        <p:blipFill>
          <a:blip r:embed="rId8"/>
          <a:stretch/>
        </p:blipFill>
        <p:spPr>
          <a:xfrm>
            <a:off x="8028000" y="278136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4" descr="снежинка_4"/>
          <p:cNvPicPr/>
          <p:nvPr/>
        </p:nvPicPr>
        <p:blipFill>
          <a:blip r:embed="rId9"/>
          <a:stretch/>
        </p:blipFill>
        <p:spPr>
          <a:xfrm>
            <a:off x="5148360" y="544500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Стас\Рабочий стол\Презентация\logo_print2.tif"/>
          <p:cNvPicPr/>
          <p:nvPr/>
        </p:nvPicPr>
        <p:blipFill>
          <a:blip r:embed="rId10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395280" y="5446800"/>
            <a:ext cx="846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уке всегда держит хрустальный или серебряный посох. Посох завершает лунница – стилизованное изображение месяца, или голова быка как символ власти, плодородия и счасть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301_la[1]"/>
          <p:cNvPicPr/>
          <p:nvPr/>
        </p:nvPicPr>
        <p:blipFill>
          <a:blip r:embed="rId3"/>
          <a:stretch/>
        </p:blipFill>
        <p:spPr>
          <a:xfrm>
            <a:off x="395280" y="765000"/>
            <a:ext cx="2448000" cy="187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2916360" y="766800"/>
            <a:ext cx="59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ий представительный старик с густой белоснежной бородой до пят, волосы серебристо-белого цв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916360" y="184464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убашка и брюки – белые, льняные, украшены белым геометрическим орнаментом, символизирующим чисто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8569440" y="6356520"/>
            <a:ext cx="574560" cy="5014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7493"/>
                </a:moveTo>
                <a:lnTo>
                  <a:pt x="8874" y="7493"/>
                </a:lnTo>
                <a:lnTo>
                  <a:pt x="8874" y="12828"/>
                </a:lnTo>
                <a:cubicBezTo>
                  <a:pt x="8874" y="13751"/>
                  <a:pt x="9675" y="14482"/>
                  <a:pt x="10710" y="14482"/>
                </a:cubicBezTo>
                <a:lnTo>
                  <a:pt x="12373" y="14482"/>
                </a:lnTo>
                <a:cubicBezTo>
                  <a:pt x="13408" y="14482"/>
                  <a:pt x="14209" y="13751"/>
                  <a:pt x="14209" y="12828"/>
                </a:cubicBezTo>
                <a:lnTo>
                  <a:pt x="14209" y="7493"/>
                </a:lnTo>
                <a:lnTo>
                  <a:pt x="12373" y="7493"/>
                </a:lnTo>
                <a:lnTo>
                  <a:pt x="15880" y="3985"/>
                </a:lnTo>
                <a:lnTo>
                  <a:pt x="19553" y="7493"/>
                </a:lnTo>
                <a:lnTo>
                  <a:pt x="17717" y="7493"/>
                </a:lnTo>
                <a:lnTo>
                  <a:pt x="17717" y="12828"/>
                </a:lnTo>
                <a:cubicBezTo>
                  <a:pt x="17717" y="15596"/>
                  <a:pt x="15141" y="18155"/>
                  <a:pt x="12373" y="18155"/>
                </a:cubicBezTo>
                <a:lnTo>
                  <a:pt x="10710" y="18155"/>
                </a:lnTo>
                <a:cubicBezTo>
                  <a:pt x="7943" y="18155"/>
                  <a:pt x="5366" y="15596"/>
                  <a:pt x="5366" y="12828"/>
                </a:cubicBezTo>
                <a:close/>
              </a:path>
            </a:pathLst>
          </a:custGeom>
          <a:gradFill rotWithShape="0">
            <a:gsLst>
              <a:gs pos="0">
                <a:srgbClr val="cdeb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95280" y="29811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сит красную или синюю шубу, расшитую серебром (восьмиконечные звезды, кресты и другой традиционный орнамент), отороченную лебединым пухом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аленки (или сапоги) и теплую шапку. Круглая форма шапки традиционна для русских царе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395280" y="43671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арежки – белые, расшиты серебром – символ чистоты и святости всего, что Дед Мороз дает из своих рук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ой символьный смысл несут современные красные варежки - неизвест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7" descr="снежинка_4"/>
          <p:cNvPicPr/>
          <p:nvPr/>
        </p:nvPicPr>
        <p:blipFill>
          <a:blip r:embed="rId4"/>
          <a:stretch/>
        </p:blipFill>
        <p:spPr>
          <a:xfrm>
            <a:off x="2411280" y="404640"/>
            <a:ext cx="648000" cy="597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снежинка_4"/>
          <p:cNvPicPr/>
          <p:nvPr/>
        </p:nvPicPr>
        <p:blipFill>
          <a:blip r:embed="rId5"/>
          <a:stretch/>
        </p:blipFill>
        <p:spPr>
          <a:xfrm>
            <a:off x="7812000" y="220500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4" descr="снежинка_4"/>
          <p:cNvPicPr/>
          <p:nvPr/>
        </p:nvPicPr>
        <p:blipFill>
          <a:blip r:embed="rId6"/>
          <a:stretch/>
        </p:blipFill>
        <p:spPr>
          <a:xfrm>
            <a:off x="1403280" y="249228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Стас\Рабочий стол\Презентация\logo_print2.tif"/>
          <p:cNvPicPr/>
          <p:nvPr/>
        </p:nvPicPr>
        <p:blipFill>
          <a:blip r:embed="rId7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7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808360" y="3500280"/>
            <a:ext cx="6156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ейчас вообще воспринимается большинством наших соотечественников как добрый волшебник с полным мешком подарочного добр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a9fa3ade34f5[1]"/>
          <p:cNvPicPr/>
          <p:nvPr/>
        </p:nvPicPr>
        <p:blipFill>
          <a:blip r:embed="rId3"/>
          <a:stretch/>
        </p:blipFill>
        <p:spPr>
          <a:xfrm>
            <a:off x="249120" y="3429000"/>
            <a:ext cx="2522520" cy="3311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720720" y="954000"/>
            <a:ext cx="7559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Раньше нрав у Деда был довольно суров и крут. Он не только одаривал тех, кто ему угодил, но и карал строптивцев – ударом посоха замораживал до смер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84360" y="2060640"/>
            <a:ext cx="7561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Когда в России стали встречать новый год зимой, в ночь с 31 декабря на 1 января, Дед Мороз стал главным героем нашего праздника. Его характер изменился: он подобрел и стал приносить детям подарки в новогоднюю ночь.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8569440" y="6356520"/>
            <a:ext cx="574560" cy="5014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7493"/>
                </a:moveTo>
                <a:lnTo>
                  <a:pt x="8874" y="7493"/>
                </a:lnTo>
                <a:lnTo>
                  <a:pt x="8874" y="12828"/>
                </a:lnTo>
                <a:cubicBezTo>
                  <a:pt x="8874" y="13751"/>
                  <a:pt x="9675" y="14482"/>
                  <a:pt x="10710" y="14482"/>
                </a:cubicBezTo>
                <a:lnTo>
                  <a:pt x="12373" y="14482"/>
                </a:lnTo>
                <a:cubicBezTo>
                  <a:pt x="13408" y="14482"/>
                  <a:pt x="14209" y="13751"/>
                  <a:pt x="14209" y="12828"/>
                </a:cubicBezTo>
                <a:lnTo>
                  <a:pt x="14209" y="7493"/>
                </a:lnTo>
                <a:lnTo>
                  <a:pt x="12373" y="7493"/>
                </a:lnTo>
                <a:lnTo>
                  <a:pt x="15880" y="3985"/>
                </a:lnTo>
                <a:lnTo>
                  <a:pt x="19553" y="7493"/>
                </a:lnTo>
                <a:lnTo>
                  <a:pt x="17717" y="7493"/>
                </a:lnTo>
                <a:lnTo>
                  <a:pt x="17717" y="12828"/>
                </a:lnTo>
                <a:cubicBezTo>
                  <a:pt x="17717" y="15596"/>
                  <a:pt x="15141" y="18155"/>
                  <a:pt x="12373" y="18155"/>
                </a:cubicBezTo>
                <a:lnTo>
                  <a:pt x="10710" y="18155"/>
                </a:lnTo>
                <a:cubicBezTo>
                  <a:pt x="7943" y="18155"/>
                  <a:pt x="5366" y="15596"/>
                  <a:pt x="5366" y="12828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7" descr="снежинка_4"/>
          <p:cNvPicPr/>
          <p:nvPr/>
        </p:nvPicPr>
        <p:blipFill>
          <a:blip r:embed="rId4"/>
          <a:stretch/>
        </p:blipFill>
        <p:spPr>
          <a:xfrm>
            <a:off x="539640" y="476280"/>
            <a:ext cx="490680" cy="45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снежинка_4"/>
          <p:cNvPicPr/>
          <p:nvPr/>
        </p:nvPicPr>
        <p:blipFill>
          <a:blip r:embed="rId5"/>
          <a:stretch/>
        </p:blipFill>
        <p:spPr>
          <a:xfrm>
            <a:off x="7740720" y="1125360"/>
            <a:ext cx="647640" cy="59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снежинка_4"/>
          <p:cNvPicPr/>
          <p:nvPr/>
        </p:nvPicPr>
        <p:blipFill>
          <a:blip r:embed="rId6"/>
          <a:stretch/>
        </p:blipFill>
        <p:spPr>
          <a:xfrm>
            <a:off x="3203640" y="5373720"/>
            <a:ext cx="960480" cy="884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снежинка_4"/>
          <p:cNvPicPr/>
          <p:nvPr/>
        </p:nvPicPr>
        <p:blipFill>
          <a:blip r:embed="rId7"/>
          <a:stretch/>
        </p:blipFill>
        <p:spPr>
          <a:xfrm>
            <a:off x="5867280" y="5661000"/>
            <a:ext cx="648000" cy="59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снежинка_4"/>
          <p:cNvPicPr/>
          <p:nvPr/>
        </p:nvPicPr>
        <p:blipFill>
          <a:blip r:embed="rId8"/>
          <a:stretch/>
        </p:blipFill>
        <p:spPr>
          <a:xfrm>
            <a:off x="6300720" y="404640"/>
            <a:ext cx="647640" cy="59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4" descr="снежинка_4"/>
          <p:cNvPicPr/>
          <p:nvPr/>
        </p:nvPicPr>
        <p:blipFill>
          <a:blip r:embed="rId9"/>
          <a:stretch/>
        </p:blipFill>
        <p:spPr>
          <a:xfrm>
            <a:off x="8172360" y="4221000"/>
            <a:ext cx="647640" cy="59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Стас\Рабочий стол\Презентация\logo_print2.tif"/>
          <p:cNvPicPr/>
          <p:nvPr/>
        </p:nvPicPr>
        <p:blipFill>
          <a:blip r:embed="rId10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132000" y="909720"/>
            <a:ext cx="5472360" cy="58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Деду Морозу очень много лет. Поначалу это был дух холода. В те времена люди не ждали от предка нынешнего Деда Мороза подарков, а дарили их ему сами, чтобы задобрить Мороза, чтобы его дух не злился, не насылал лютый холод, не мешал охот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Затем его прообразом стал Дед, которого древние славяне считали общим предком всех семей и защитником потомков. Зимой и весной Деду воздавались почести и предлагалось угощение, при этом его просили не «бить овес» (или другие актуальные сельскохозяйственный культуры).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имволом новогодних праздников он стал примерно 100-150 лет назад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8317080" y="6356520"/>
            <a:ext cx="574560" cy="5014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7493"/>
                </a:moveTo>
                <a:lnTo>
                  <a:pt x="8874" y="7493"/>
                </a:lnTo>
                <a:lnTo>
                  <a:pt x="8874" y="12828"/>
                </a:lnTo>
                <a:cubicBezTo>
                  <a:pt x="8874" y="13751"/>
                  <a:pt x="9675" y="14482"/>
                  <a:pt x="10710" y="14482"/>
                </a:cubicBezTo>
                <a:lnTo>
                  <a:pt x="12373" y="14482"/>
                </a:lnTo>
                <a:cubicBezTo>
                  <a:pt x="13408" y="14482"/>
                  <a:pt x="14209" y="13751"/>
                  <a:pt x="14209" y="12828"/>
                </a:cubicBezTo>
                <a:lnTo>
                  <a:pt x="14209" y="7493"/>
                </a:lnTo>
                <a:lnTo>
                  <a:pt x="12373" y="7493"/>
                </a:lnTo>
                <a:lnTo>
                  <a:pt x="15880" y="3985"/>
                </a:lnTo>
                <a:lnTo>
                  <a:pt x="19553" y="7493"/>
                </a:lnTo>
                <a:lnTo>
                  <a:pt x="17717" y="7493"/>
                </a:lnTo>
                <a:lnTo>
                  <a:pt x="17717" y="12828"/>
                </a:lnTo>
                <a:cubicBezTo>
                  <a:pt x="17717" y="15596"/>
                  <a:pt x="15141" y="18155"/>
                  <a:pt x="12373" y="18155"/>
                </a:cubicBezTo>
                <a:lnTo>
                  <a:pt x="10710" y="18155"/>
                </a:lnTo>
                <a:cubicBezTo>
                  <a:pt x="7943" y="18155"/>
                  <a:pt x="5366" y="15596"/>
                  <a:pt x="5366" y="12828"/>
                </a:cubicBezTo>
                <a:close/>
              </a:path>
            </a:pathLst>
          </a:custGeom>
          <a:gradFill rotWithShape="0">
            <a:gsLst>
              <a:gs pos="0">
                <a:srgbClr val="cdeb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121338df979f[1]"/>
          <p:cNvPicPr/>
          <p:nvPr/>
        </p:nvPicPr>
        <p:blipFill>
          <a:blip r:embed="rId3"/>
          <a:stretch/>
        </p:blipFill>
        <p:spPr>
          <a:xfrm>
            <a:off x="-139680" y="692280"/>
            <a:ext cx="3990960" cy="532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снежинка_4"/>
          <p:cNvPicPr/>
          <p:nvPr/>
        </p:nvPicPr>
        <p:blipFill>
          <a:blip r:embed="rId4"/>
          <a:stretch/>
        </p:blipFill>
        <p:spPr>
          <a:xfrm>
            <a:off x="539640" y="47628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снежинка_4"/>
          <p:cNvPicPr/>
          <p:nvPr/>
        </p:nvPicPr>
        <p:blipFill>
          <a:blip r:embed="rId5"/>
          <a:stretch/>
        </p:blipFill>
        <p:spPr>
          <a:xfrm>
            <a:off x="3348000" y="33336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4" descr="снежинка_4"/>
          <p:cNvPicPr/>
          <p:nvPr/>
        </p:nvPicPr>
        <p:blipFill>
          <a:blip r:embed="rId6"/>
          <a:stretch/>
        </p:blipFill>
        <p:spPr>
          <a:xfrm>
            <a:off x="4859280" y="508464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Documents and Settings\Стас\Рабочий стол\Презентация\logo_print2.tif"/>
          <p:cNvPicPr/>
          <p:nvPr/>
        </p:nvPicPr>
        <p:blipFill>
          <a:blip r:embed="rId7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8"/>
          <p:cNvSpPr/>
          <p:nvPr/>
        </p:nvSpPr>
        <p:spPr>
          <a:xfrm>
            <a:off x="8569440" y="6356520"/>
            <a:ext cx="574560" cy="5014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7493"/>
                </a:moveTo>
                <a:lnTo>
                  <a:pt x="8874" y="7493"/>
                </a:lnTo>
                <a:lnTo>
                  <a:pt x="8874" y="12828"/>
                </a:lnTo>
                <a:cubicBezTo>
                  <a:pt x="8874" y="13751"/>
                  <a:pt x="9675" y="14482"/>
                  <a:pt x="10710" y="14482"/>
                </a:cubicBezTo>
                <a:lnTo>
                  <a:pt x="12373" y="14482"/>
                </a:lnTo>
                <a:cubicBezTo>
                  <a:pt x="13408" y="14482"/>
                  <a:pt x="14209" y="13751"/>
                  <a:pt x="14209" y="12828"/>
                </a:cubicBezTo>
                <a:lnTo>
                  <a:pt x="14209" y="7493"/>
                </a:lnTo>
                <a:lnTo>
                  <a:pt x="12373" y="7493"/>
                </a:lnTo>
                <a:lnTo>
                  <a:pt x="15880" y="3985"/>
                </a:lnTo>
                <a:lnTo>
                  <a:pt x="19553" y="7493"/>
                </a:lnTo>
                <a:lnTo>
                  <a:pt x="17717" y="7493"/>
                </a:lnTo>
                <a:lnTo>
                  <a:pt x="17717" y="12828"/>
                </a:lnTo>
                <a:cubicBezTo>
                  <a:pt x="17717" y="15596"/>
                  <a:pt x="15141" y="18155"/>
                  <a:pt x="12373" y="18155"/>
                </a:cubicBezTo>
                <a:lnTo>
                  <a:pt x="10710" y="18155"/>
                </a:lnTo>
                <a:cubicBezTo>
                  <a:pt x="7943" y="18155"/>
                  <a:pt x="5366" y="15596"/>
                  <a:pt x="5366" y="12828"/>
                </a:cubicBezTo>
                <a:close/>
              </a:path>
            </a:pathLst>
          </a:custGeom>
          <a:gradFill rotWithShape="0">
            <a:gsLst>
              <a:gs pos="0">
                <a:srgbClr val="cdeb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916360" y="692280"/>
            <a:ext cx="583236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негурочка - внучка Деда Мороз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аз Снегурочки - символ застывших во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девушка (а не девочка), одетая только в белые одежды. Никакой иной цвет в традиционной символике не допускается. Ее головной убор - восьмилучевой венец, шитый серебром и жемчугом. Современный костюм Снегурочки чаще всего соответствует историческому описанию. Нарушения цветовой гаммы встречаются крайне редко и, как правило, оправдываются отсутствием возможности изготовить «правильный» костю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негурочка всегда молода, необычайно красива, немного грустна... Но при этом она – самый милый персонаж новогодних праздник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C:\Documents and Settings\Стас\Рабочий стол\1111111111.png"/>
          <p:cNvPicPr/>
          <p:nvPr/>
        </p:nvPicPr>
        <p:blipFill>
          <a:blip r:embed="rId3"/>
          <a:stretch/>
        </p:blipFill>
        <p:spPr>
          <a:xfrm>
            <a:off x="539640" y="404640"/>
            <a:ext cx="2332080" cy="631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4" descr="снежинка_5"/>
          <p:cNvPicPr/>
          <p:nvPr/>
        </p:nvPicPr>
        <p:blipFill>
          <a:blip r:embed="rId4"/>
          <a:stretch/>
        </p:blipFill>
        <p:spPr>
          <a:xfrm>
            <a:off x="8172360" y="1916280"/>
            <a:ext cx="66852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снежинка_5"/>
          <p:cNvPicPr/>
          <p:nvPr/>
        </p:nvPicPr>
        <p:blipFill>
          <a:blip r:embed="rId5"/>
          <a:stretch/>
        </p:blipFill>
        <p:spPr>
          <a:xfrm>
            <a:off x="3059280" y="5877000"/>
            <a:ext cx="66816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снежинка_5"/>
          <p:cNvPicPr/>
          <p:nvPr/>
        </p:nvPicPr>
        <p:blipFill>
          <a:blip r:embed="rId6"/>
          <a:stretch/>
        </p:blipFill>
        <p:spPr>
          <a:xfrm>
            <a:off x="2195640" y="404640"/>
            <a:ext cx="66816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снежинка_4"/>
          <p:cNvPicPr/>
          <p:nvPr/>
        </p:nvPicPr>
        <p:blipFill>
          <a:blip r:embed="rId7"/>
          <a:stretch/>
        </p:blipFill>
        <p:spPr>
          <a:xfrm>
            <a:off x="324000" y="54936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снежинка_4"/>
          <p:cNvPicPr/>
          <p:nvPr/>
        </p:nvPicPr>
        <p:blipFill>
          <a:blip r:embed="rId8"/>
          <a:stretch/>
        </p:blipFill>
        <p:spPr>
          <a:xfrm>
            <a:off x="8101080" y="83664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4" descr="снежинка_4"/>
          <p:cNvPicPr/>
          <p:nvPr/>
        </p:nvPicPr>
        <p:blipFill>
          <a:blip r:embed="rId9"/>
          <a:stretch/>
        </p:blipFill>
        <p:spPr>
          <a:xfrm>
            <a:off x="324000" y="436572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Стас\Рабочий стол\Презентация\logo_print2.tif"/>
          <p:cNvPicPr/>
          <p:nvPr/>
        </p:nvPicPr>
        <p:blipFill>
          <a:blip r:embed="rId10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0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Рисунок 1" descr="171.gif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856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" descr="171.gif"/>
          <p:cNvPicPr/>
          <p:nvPr/>
        </p:nvPicPr>
        <p:blipFill>
          <a:blip r:embed="rId2"/>
          <a:stretch/>
        </p:blipFill>
        <p:spPr>
          <a:xfrm>
            <a:off x="0" y="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24000" y="2349360"/>
            <a:ext cx="83516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В 1998 российской родиной Деда Мороза был назван Великий Устюг – древнейший город на северо-востоке Вологодской области у слияния рек Сухоны и Юга.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305_la[1]"/>
          <p:cNvPicPr/>
          <p:nvPr/>
        </p:nvPicPr>
        <p:blipFill>
          <a:blip r:embed="rId3"/>
          <a:stretch/>
        </p:blipFill>
        <p:spPr>
          <a:xfrm>
            <a:off x="5796000" y="3645000"/>
            <a:ext cx="3031920" cy="2016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2484360" y="853920"/>
            <a:ext cx="6408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Древний Дед Мороз, согласно славянским языческим мифам, обитал в ледяной избушке в стране мертвых, куда можно было попасть, пройдя через колодец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79280" y="572616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дрес, по которому можно написать письмо Деду Морозу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62340 Россия, Вологодская обл.,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 Великий Устюг, Деду Мороз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8569440" y="6356520"/>
            <a:ext cx="574560" cy="5014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7493"/>
                </a:moveTo>
                <a:lnTo>
                  <a:pt x="8874" y="7493"/>
                </a:lnTo>
                <a:lnTo>
                  <a:pt x="8874" y="12828"/>
                </a:lnTo>
                <a:cubicBezTo>
                  <a:pt x="8874" y="13751"/>
                  <a:pt x="9675" y="14482"/>
                  <a:pt x="10710" y="14482"/>
                </a:cubicBezTo>
                <a:lnTo>
                  <a:pt x="12373" y="14482"/>
                </a:lnTo>
                <a:cubicBezTo>
                  <a:pt x="13408" y="14482"/>
                  <a:pt x="14209" y="13751"/>
                  <a:pt x="14209" y="12828"/>
                </a:cubicBezTo>
                <a:lnTo>
                  <a:pt x="14209" y="7493"/>
                </a:lnTo>
                <a:lnTo>
                  <a:pt x="12373" y="7493"/>
                </a:lnTo>
                <a:lnTo>
                  <a:pt x="15880" y="3985"/>
                </a:lnTo>
                <a:lnTo>
                  <a:pt x="19553" y="7493"/>
                </a:lnTo>
                <a:lnTo>
                  <a:pt x="17717" y="7493"/>
                </a:lnTo>
                <a:lnTo>
                  <a:pt x="17717" y="12828"/>
                </a:lnTo>
                <a:cubicBezTo>
                  <a:pt x="17717" y="15596"/>
                  <a:pt x="15141" y="18155"/>
                  <a:pt x="12373" y="18155"/>
                </a:cubicBezTo>
                <a:lnTo>
                  <a:pt x="10710" y="18155"/>
                </a:lnTo>
                <a:cubicBezTo>
                  <a:pt x="7943" y="18155"/>
                  <a:pt x="5366" y="15596"/>
                  <a:pt x="5366" y="12828"/>
                </a:cubicBezTo>
                <a:close/>
              </a:path>
            </a:pathLst>
          </a:custGeom>
          <a:gradFill rotWithShape="0">
            <a:gsLst>
              <a:gs pos="0">
                <a:srgbClr val="cdeb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3716280"/>
            <a:ext cx="51847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В сосновом бору, в пятнадцати километрах от города была построена вотчина Деда мороза. В его деревне открыты лавка Деда Мороза, почта и музей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2" descr="_18_нвг_2"/>
          <p:cNvPicPr/>
          <p:nvPr/>
        </p:nvPicPr>
        <p:blipFill>
          <a:blip r:embed="rId4"/>
          <a:stretch/>
        </p:blipFill>
        <p:spPr>
          <a:xfrm>
            <a:off x="395280" y="750960"/>
            <a:ext cx="2016000" cy="1598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3" descr="снежинка_3_1"/>
          <p:cNvPicPr/>
          <p:nvPr/>
        </p:nvPicPr>
        <p:blipFill>
          <a:blip r:embed="rId5"/>
          <a:stretch/>
        </p:blipFill>
        <p:spPr>
          <a:xfrm>
            <a:off x="324000" y="6191280"/>
            <a:ext cx="65880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3" descr="снежинка_3_1"/>
          <p:cNvPicPr/>
          <p:nvPr/>
        </p:nvPicPr>
        <p:blipFill>
          <a:blip r:embed="rId6"/>
          <a:stretch/>
        </p:blipFill>
        <p:spPr>
          <a:xfrm>
            <a:off x="6588000" y="476280"/>
            <a:ext cx="446040" cy="45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3" descr="снежинка_3_1"/>
          <p:cNvPicPr/>
          <p:nvPr/>
        </p:nvPicPr>
        <p:blipFill>
          <a:blip r:embed="rId7"/>
          <a:stretch/>
        </p:blipFill>
        <p:spPr>
          <a:xfrm>
            <a:off x="7740720" y="6093000"/>
            <a:ext cx="515880" cy="523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снежинка_3_1"/>
          <p:cNvPicPr/>
          <p:nvPr/>
        </p:nvPicPr>
        <p:blipFill>
          <a:blip r:embed="rId8"/>
          <a:stretch/>
        </p:blipFill>
        <p:spPr>
          <a:xfrm>
            <a:off x="2124000" y="476280"/>
            <a:ext cx="515880" cy="523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снежинка_5"/>
          <p:cNvPicPr/>
          <p:nvPr/>
        </p:nvPicPr>
        <p:blipFill>
          <a:blip r:embed="rId9"/>
          <a:stretch/>
        </p:blipFill>
        <p:spPr>
          <a:xfrm>
            <a:off x="5292720" y="4941720"/>
            <a:ext cx="66852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Стас\Рабочий стол\Презентация\logo_print2.tif"/>
          <p:cNvPicPr/>
          <p:nvPr/>
        </p:nvPicPr>
        <p:blipFill>
          <a:blip r:embed="rId10"/>
          <a:stretch/>
        </p:blipFill>
        <p:spPr>
          <a:xfrm>
            <a:off x="7497720" y="47628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1:24:46Z</dcterms:created>
  <dc:creator>Стасик</dc:creator>
  <dc:description/>
  <dc:language>en-US</dc:language>
  <cp:lastModifiedBy>Стасик</cp:lastModifiedBy>
  <dcterms:modified xsi:type="dcterms:W3CDTF">2011-12-16T08:20:02Z</dcterms:modified>
  <cp:revision>34</cp:revision>
  <dc:subject/>
  <dc:title>Слайд 1</dc:title>
</cp:coreProperties>
</file>